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BF8-364A-486C-B0A8-6DD50554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C74-AAEB-4F1E-A130-2DF3BB7F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613-9061-461E-801A-C35F0A96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799-ACC5-4F49-80F3-AC9A7DD6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4F4D-E8D1-4E3C-876F-1474CA16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8D7D-D1BF-4EB9-987B-B7AEDF76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A5EB-577F-464D-988D-F359B00A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724B-FFA4-4A8B-B202-74A09AB1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0977-4F34-484F-B763-5F57D639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1E8F-41FE-4276-872B-3658EFF9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9FE7-AE54-492A-8C7B-308C1876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19A-3510-4C3D-8506-CD73A20D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F4D0-6DA0-44DC-9494-47D42B8D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9E9A-19F9-41B2-A004-0285FB8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2A1F-AF0A-4A58-A9F4-FF2049D8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3BC4-9843-44DD-B1BC-BC5BADF4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F70B-F82F-46A3-93AA-36E71302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B00-50DF-41E5-BBCC-2D12AFEF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C92-F85C-4C31-9D20-BC8BBB9A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2DD-8695-4072-A05D-766A93C3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C6F-2B7A-48A8-95C1-EBAB2AEC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184-A7D1-4BE6-9279-3A67E40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E8F-401F-468A-B76D-F47F237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DA9-1524-48F8-B93A-342B8F60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D55B-0BE0-4DF6-9D1D-EC23F80589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68E8-70B8-45A7-85C4-9CD1C4E608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dt-enzymes.com/images/WP/WPPHOTO2.JPG&amp;imgrefurl=http://www.edt-enzymes.com/new_page_3.htm&amp;h=515&amp;w=496&amp;sz=36&amp;tbnid=zT9gxM3HmxH4LM:&amp;tbnh=128&amp;tbnw=123&amp;hl=en&amp;start=5&amp;prev=/images%3Fq%3Denzymes%26svnum%3D10%26hl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suite101.com/235214_primarystructureofprotein_crop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Notes: Enzym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4190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– The Chemistr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243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Enzy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rote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t speeds up a chemical reaction of a cell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Enzymes ar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atalys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ubstances that speed up 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chemical reaction without being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estr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the reaction.  They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can b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us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ver and over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61679" t="23343" r="0" b="0"/>
          <a:stretch/>
        </p:blipFill>
        <p:spPr>
          <a:xfrm>
            <a:off x="2362320" y="4495680"/>
            <a:ext cx="49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They are composed of long chai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of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mino 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nected b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epti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onds, folded into 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particular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hap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The shap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determines the specific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re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that the enzyme will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ataly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Amino acids linked by peptide bonds., US government Ge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809880"/>
            <a:ext cx="3200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 Enzymes fit like a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Lo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K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7533" r="0" b="25692"/>
          <a:stretch/>
        </p:blipFill>
        <p:spPr>
          <a:xfrm>
            <a:off x="1447920" y="2209680"/>
            <a:ext cx="6400800" cy="3276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742840" y="160020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895120" y="5333760"/>
            <a:ext cx="83844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086240" y="3809880"/>
            <a:ext cx="10666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715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3429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bstr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the reactants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ever you want the enzym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on.  Ex: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43200" y="380988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2362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ctive S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place on the enzyme  where the substrate attach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  Enzymes ar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pecif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the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bstr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Ex: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crase onl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atalyzes Suc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5687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. Enzymes have a specific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emperatu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which they can function.  Destruction of any protein =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enaturiz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2096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 How do enzymes speed up their chemical reactions?  The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lower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ctiv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ergy required for the reaction to occ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 are our Enzy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are our enz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your subst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make us 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we comb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have induced 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make a p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don’t take our enzyme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know that enzymes are really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keep them 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just releas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y ar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reactions will set us 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watch the 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’ll watch the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in this w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’ll activ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though we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little subst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must be on ou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9:20:59Z</dcterms:created>
  <dc:creator>pc owner</dc:creator>
  <dc:description/>
  <dc:language>en-US</dc:language>
  <cp:lastModifiedBy>sautrey</cp:lastModifiedBy>
  <dcterms:modified xsi:type="dcterms:W3CDTF">2009-09-10T19:39:35Z</dcterms:modified>
  <cp:revision>2</cp:revision>
  <dc:subject/>
  <dc:title>Carbon Compounds (simplified)</dc:title>
</cp:coreProperties>
</file>